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E18-C08B-4981-9CB7-E57D601A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25E-52E1-42B2-94A8-3DF4C6E5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25D-755F-4CFF-AC7D-B9E44D13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656-EA60-4D67-891F-43A415C8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A502-9E57-499F-8AE3-DD05F16A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0652-47EB-47DE-9555-C689DCCC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8710-68D2-44AF-BE8C-1D8B633E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A329-AF35-4A5C-9340-F9B9FF5E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E858-193E-4A47-BA5E-973BE971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7AF8-A827-4DF5-9198-142359DC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EF0F-BFB8-43CB-9BAD-A8D0889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23A-5CC6-4F2B-A213-EFB4AD93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9916-CD6F-42E4-B157-3841FE1F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CB3D-5166-48FA-A719-D5B6F84B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B305-E669-4534-B68B-0C0EE723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7F51-9BAC-4F53-B873-2723B495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61EB-D961-48C2-9ACB-B0105CB4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754-5EC0-4F71-B04B-1B28996E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9D4-C559-47B4-8A01-5C18C789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356-E6B6-4ED8-B085-1D5EF66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6FD-D93B-43B4-AF5B-ACBFDB91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D66-417C-44D7-A30A-109A39C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783-0F77-4CAA-9612-36992FC4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21A-3180-480E-A1C2-0F145C4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E379-62DC-4DF1-A538-6CBD09CEEA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5E64-31CC-4F3F-9A40-1706ADE8C8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Bluepr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1611360"/>
            <a:ext cx="52578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Spe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Square Foota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0+224+180+256+60+48+144+216 =1268 square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Volume: 1680+2688+2160+3072+720+576+ 1728+2592=15216 cubic f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9492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294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666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4988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’x1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27000" y="2622600"/>
            <a:ext cx="382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0 feet x 1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 x 14 = 14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0 feet)+2(1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0)+2(14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0 feet x 1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168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 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99036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360" y="31561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000" y="23940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4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4 x 16 = 22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4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4)+2(16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4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0x14x12=268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430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360" y="32320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79080" y="22417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5 = 18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5)=5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5x12=216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6668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0040" y="39178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’x16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7680" y="262260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6 feet x 16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 x 16 = 25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6 feet)+2(16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6)+2(16)=6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6 feet x 16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6x16x12=307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ster B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572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8862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914040" y="3657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040" y="3994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5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34240" y="269892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5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5 = 60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5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5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5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5x12=720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9120" y="3505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343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040" y="36892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4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7920" y="2394000"/>
            <a:ext cx="369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4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4 = 48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4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4)=3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4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4x12=576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5268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14040" y="2895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895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864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68040" y="38419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2’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79080" y="24703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2 = 144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1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2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2)=4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2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2x12=1728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90720" y="2971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9907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0040" y="34606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’x18’x1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000" y="2927520"/>
            <a:ext cx="382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ea: 12 feet x 18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 x 18 = 216 square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Room square footage is 2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quare f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imeter: 2(12 feet)+2(18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(12)+2(18)=6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Volume: 12 feet x 18 feet x 12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2x18x12=2592 cubic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52:18Z</dcterms:created>
  <dc:creator>Jay Hawk</dc:creator>
  <dc:description/>
  <dc:language>en-US</dc:language>
  <cp:lastModifiedBy>Owner</cp:lastModifiedBy>
  <dcterms:modified xsi:type="dcterms:W3CDTF">2008-04-09T16:38:59Z</dcterms:modified>
  <cp:revision>15</cp:revision>
  <dc:subject/>
  <dc:title>House Blueprints</dc:title>
</cp:coreProperties>
</file>