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6E1-45B8-430E-8D60-27FE0E76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A25-563D-4EAA-AAC4-D01A1601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AD7-F8A2-46B2-8714-FA9FE8B5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2F3-E0C4-4754-A56A-255F70E1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A534-5BC8-4520-89CF-A8CA4C6F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4C2B-7950-4B42-9FEC-9426157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6A3D-BBE4-4DAC-A322-C1133BBD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0556-0909-47FF-B450-374F8C4D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3F3D-181F-45D6-A742-89B9CE9E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D4BC-E1F9-4861-AE9C-67ACF7CE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EE66-7078-4F2F-AE35-016BE4CB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79C-FA55-4FC8-8295-620D1B4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C981-4FF2-4E1F-BB16-72EF1E8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6B97-AB5C-4553-82E9-E25E962F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8D5D-84AD-4351-8D1D-21F30683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FD80-0B2A-4549-A47D-688D2EED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5A02-F3B7-49CF-A422-7AD1147E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04E-8AC9-4679-9AD2-722ED2C5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CE1-A566-40FB-802A-032CE9DC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F16-DE05-4E97-86E3-C2797CF3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EA6-2005-4CC7-9769-151D52CF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D9F-B298-4378-B4C1-9F13C3D1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49E-B34C-44FB-8483-38BFB960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EBC-5437-425B-9496-1FF51C7C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A201-4936-43D0-BFD7-4F4CAF8227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C245-85FE-4881-853A-21E2991022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Bluepr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611360"/>
            <a:ext cx="52578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Spe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Square Foo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0+224+180+256+60+48+144+216 =1268 square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Volume: 1680+2688+2160+3072+720+576+ 1728+2592=15216 cubic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9492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294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6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988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’x1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27000" y="2622600"/>
            <a:ext cx="382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0 feet x 1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 x 14 = 14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0 feet)+2(1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0)+2(14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0 feet x 1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168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36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36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000" y="23940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4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 x 16 = 22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4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4)+2(16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4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268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430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360" y="3232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9080" y="22417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5 = 18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5)=5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5x12=216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668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0040" y="39178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7680" y="26226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6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 x 16 = 25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6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6)+2(16)=6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6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x16x12=307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862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040" y="3994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4240" y="269892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5 = 6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5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5x12=72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912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040" y="3689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7920" y="239400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4 = 48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4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4x12=576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5268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14040" y="2895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8040" y="384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2’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79080" y="24703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2 = 14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2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2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2x12=172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90720" y="2971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907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0040" y="3460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8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000" y="29275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8 = 21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8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8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8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8x12=259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52:18Z</dcterms:created>
  <dc:creator>Jay Hawk</dc:creator>
  <dc:description/>
  <dc:language>en-US</dc:language>
  <cp:lastModifiedBy>Owner</cp:lastModifiedBy>
  <dcterms:modified xsi:type="dcterms:W3CDTF">2008-04-09T16:38:59Z</dcterms:modified>
  <cp:revision>15</cp:revision>
  <dc:subject/>
  <dc:title>House Blueprints</dc:title>
</cp:coreProperties>
</file>