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E6A-CD5F-4D49-ACB8-BF4B6B1D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5C7-C6DE-4451-B76A-E10179AF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2E5-1694-4E3A-A6E7-C0DA128D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D77-9525-4B0A-AA15-1AF8DA68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9702-C9D6-431B-A70C-6CB9B50D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1E9-9EB6-47A0-A148-73CEE7FA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C02-5474-4A4B-AED9-03DAE396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72C-D663-4B5E-A3CD-95FD0D70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3802-36E6-4AF9-BF0A-C279452D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034-3B1E-4D5C-BFD4-1112D85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2C4B-2701-45EC-9E90-C60B8D2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1A3-766C-4B4C-AD57-9292ECBC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45AA-502C-4953-9369-EB170FD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97E-EE97-48DA-A57B-C60D73C1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C1F4-F0CC-459D-9BAF-29713EC7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91A7-11E8-46FA-9666-AC4845EA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3210-45CC-4D9D-B145-FDE4053B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F95-8DD4-4A92-A81B-40B2DFB2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D80-E3F3-44C4-A397-25916CE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B46-1A0F-41D8-8124-62CE4DDD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3A2-465F-4B08-93BF-2EA57A1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802-DF08-45DF-AA23-635769E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F1B-5FCB-4218-A0CD-0DE94C8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C7D-143F-4BFD-96D4-169771E1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AB7B-AEEF-4D3A-9838-16A7C8080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F67B-359A-48C4-BE1C-1A6284AF03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8:59Z</dcterms:modified>
  <cp:revision>15</cp:revision>
  <dc:subject/>
  <dc:title>House Blueprints</dc:title>
</cp:coreProperties>
</file>