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D86-B28B-4CAA-B5D0-3F0E1B14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016-E894-4D4B-8135-AECA9D0A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3A7-3213-4B8B-9AB4-3484CB3C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6BB-0F85-4D3C-9AFE-91C32B38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C56-9D25-4AA7-AFE4-7181EF67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9AF3-45DE-4C23-AC9F-C47627C7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C78B-13A8-42C6-85D9-09BDB9D8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EAB-DC8E-48F4-A5B3-EB2F8AD8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4972-CEC2-407E-A16B-BC035E8C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A21-5E7F-402C-B94A-8655CEF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519D-D7AA-4E88-915D-95336D7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B2B-73AE-40FF-9399-4F01A3E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37DA-F31F-4505-AEE3-4BEEC6F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131-373D-4F02-88EA-2D0BCE2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04E0-B20B-4B8C-933C-2206385B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B286-89B8-48EF-A145-1AC3B243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86B8-F301-4245-923A-C63C44DD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8FF-A338-44F6-BAB2-3CD855E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081-0E23-4ABC-B05E-A927825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5C4-CEF5-45AE-A6EA-1FE1F36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9C1-2B68-483B-A897-4936D89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015-0499-44AC-872F-CF3494D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279-70D3-4B0B-85EC-9C81F50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6B9-0A84-4304-9939-F880821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461-DB4B-4F3E-8E97-772F5FFBE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5D1-5990-43CA-AD1A-619D7B6C10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8:59Z</dcterms:modified>
  <cp:revision>15</cp:revision>
  <dc:subject/>
  <dc:title>House Blueprints</dc:title>
</cp:coreProperties>
</file>