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319-C49E-4B90-B411-DDA9893E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B16B-21DC-41E0-8F82-F8CEF6AE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5A0-D67D-4A57-883B-176A2BA8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5641-5AFE-48CC-8CE1-0445CE95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5D3D-2AEB-4AE0-91A0-A95C5698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2BB8-8DFA-443D-98BB-CE914AF1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C36A-BA7C-40D6-8352-8201172A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ED09-3278-4500-92E4-88E6DCB0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6F70-1AC1-46AB-A35E-E1A43F99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5527-9AA3-4478-A203-A6F2A0AB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83C6-7893-4F5E-8C02-50134329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E0C9-916F-41F7-AA09-D9EA4441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995A-6CB5-4120-BBA6-67603B63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FC02-580F-486C-A109-8CBD3CB9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1FDD-6992-4B25-A67C-89E195FF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57DD-D582-435C-A2FC-CED36024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3C81-750A-471B-BF8C-CC328B00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2816-57BE-4AB3-A4CE-68AE1078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1D74-6E15-40BC-945B-F54ED3DD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2A9F-6A2C-4C5C-BDAC-5EF8F61A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BA0-A778-42C1-BA0B-4664103C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DF65-73B4-4A93-922A-AA25BE53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D19-4B18-4FC7-87EB-32491C13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CF2-875A-49CE-8EED-B35FBB4D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3694-80C4-49C1-A3B2-3847E9D8FF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44BA-DF3B-491C-8DE5-9FECE83372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Bluepri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81080" y="1611360"/>
            <a:ext cx="52578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Spe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Square Foota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40+224+180+256+60+48+144+216 =1268 square f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Volume: 1680+2688+2160+3072+720+576+ 1728+2592=15216 cubic f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ing 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294920" y="5562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294920" y="2666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6668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49880" y="31561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’x14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27000" y="2622600"/>
            <a:ext cx="3826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0 feet x 1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 x 14 = 14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0 feet)+2(14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0)+2(14)=4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0 feet x 14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x14x12=168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ning 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3809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5638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4290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99036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360" y="31561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4’x16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000" y="239400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4 feet x 16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4 x 16 = 224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2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4 feet)+2(16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4)+2(16)=6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4 feet x 16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x14x12=2688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ster B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514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5181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971800" y="2895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1430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360" y="32320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5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79080" y="22417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5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5 = 18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8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5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5)=5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5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5x12=216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3200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5486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3200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666880" y="3200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0040" y="39178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’x16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07680" y="262260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6 feet x 16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 x 16 = 256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6 feet)+2(16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6)+2(16)=6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6 feet x 16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x16x12=3072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ster B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5720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8862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914040" y="3657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040" y="39942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5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34240" y="2698920"/>
            <a:ext cx="369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5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5 = 6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5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5)=3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5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5x12=72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th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09120" y="35053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3434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2040" y="36892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4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57920" y="2394000"/>
            <a:ext cx="369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4 = 48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4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4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4)=3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4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4x12=576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d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352680" y="2895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914040" y="2895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28954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486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68040" y="38419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2’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79080" y="24703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2 = 144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2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2)=4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2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2x12=1728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d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990720" y="29718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9718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990720" y="57913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0040" y="34606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8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000" y="29275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8 = 216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2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8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8)=6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8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8x12=2592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6:52:18Z</dcterms:created>
  <dc:creator>Jay Hawk</dc:creator>
  <dc:description/>
  <dc:language>en-US</dc:language>
  <cp:lastModifiedBy>Owner</cp:lastModifiedBy>
  <dcterms:modified xsi:type="dcterms:W3CDTF">2008-04-09T16:33:26Z</dcterms:modified>
  <cp:revision>15</cp:revision>
  <dc:subject/>
  <dc:title>House Blueprints</dc:title>
</cp:coreProperties>
</file>