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1423-8AB1-450C-92E1-59A93844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D65-C405-450B-90DC-593D48AB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003-1509-449B-88D0-AE10BF1A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6FE-EDC4-4E68-A4E8-FC9751F9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D9AE-E1E1-4201-9CB4-FE8A8321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3444-79B6-4469-AD02-D7ACC0B0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0699-01DE-4E9B-B658-17D6EB2A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6736-C702-47F1-9DA2-4B061139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9FB6-AB7F-4606-9512-CCB84748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A264-0488-446F-BC60-67A4B8C1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FACD-C8C7-495A-905D-FD164556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11D5-4086-4D0C-AACD-D1CEA032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14A8-7715-4F4E-BE3B-E934A1F2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F3AF-472E-442F-9FF0-0D47BCE1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494C-4B75-4825-B0F2-FA00525D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D9CC-3926-41DA-BEA4-CB14D36E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7286-7147-4FA4-BB8F-A7F7E850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AE3-29E7-4849-9BD4-EB0475F3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7C0-636C-434A-BC6C-A5AE0E07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A5E6-9A25-48FD-ACBE-C4EB7587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0BA5-C8F2-4D07-B299-AAE02E96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5753-A5A6-4E0B-B65F-1DC5E646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C2F-820A-4717-B0A5-40B53113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4C9F-6743-4381-9632-FE009541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C7D4-D916-4FDE-9867-0D9B0031B4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60B9-7420-459F-97BF-1C35F761BE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Bluepri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81080" y="1611360"/>
            <a:ext cx="52578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Spe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Square Foota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40+224+180+256+60+48+144+216 =1268 square f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Volume: 1680+2688+2160+3072+720+576+ 1728+2592=15216 cubic f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ing 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294920" y="5562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294920" y="2666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6668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49880" y="31561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’x14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27000" y="2622600"/>
            <a:ext cx="3826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0 feet x 1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 x 14 = 14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0 feet)+2(14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0)+2(14)=4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0 feet x 14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x14x12=168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ning 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3809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5638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4290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99036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360" y="31561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4’x16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000" y="239400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4 feet x 16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4 x 16 = 224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2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4 feet)+2(16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4)+2(16)=6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4 feet x 16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x14x12=2688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ster B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514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5181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971800" y="2895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1430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360" y="32320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5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79080" y="22417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5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5 = 18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8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5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5)=5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5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5x12=216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3200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5486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3200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666880" y="3200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0040" y="39178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’x16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07680" y="262260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6 feet x 16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 x 16 = 256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6 feet)+2(16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6)+2(16)=6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6 feet x 16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x16x12=3072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ster B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5720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8862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914040" y="3657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040" y="39942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5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34240" y="2698920"/>
            <a:ext cx="369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5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5 = 6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5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5)=3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5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5x12=72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th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09120" y="35053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3434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2040" y="36892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4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57920" y="2394000"/>
            <a:ext cx="369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4 = 48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4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4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4)=3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4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4x12=576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d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352680" y="2895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914040" y="2895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28954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486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68040" y="38419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2’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79080" y="24703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2 = 144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2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2)=4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2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2x12=1728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d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990720" y="29718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9718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990720" y="57913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0040" y="34606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8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000" y="29275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8 = 216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2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8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8)=6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8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8x12=2592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6:52:18Z</dcterms:created>
  <dc:creator>Jay Hawk</dc:creator>
  <dc:description/>
  <dc:language>en-US</dc:language>
  <cp:lastModifiedBy>Owner</cp:lastModifiedBy>
  <dcterms:modified xsi:type="dcterms:W3CDTF">2008-04-09T16:33:26Z</dcterms:modified>
  <cp:revision>15</cp:revision>
  <dc:subject/>
  <dc:title>House Blueprints</dc:title>
</cp:coreProperties>
</file>