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73B-6F7D-4490-9672-D8FAA817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A8A-EC5B-4ED8-B071-A2C9FA1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308-C4BE-49E4-9CF7-4715DBDA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931-2799-4360-ADFA-791DDC1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72BE-AB68-46F6-87C1-0BB7D435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486F-3E7A-489A-8670-789575C3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7207-8166-4D68-8DEE-0509C166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44B-B952-44FD-B45D-26A70DA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DAD-EADD-45D4-ADA0-37A19223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CF5-7E65-4D0D-B6EE-6E4641D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EF29-E3E1-4860-BC0E-5BB55B3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D03-6B02-4BB2-8A62-03ACBD92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8F8-B827-4BAD-BDA0-29228D2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424B-81E4-4DD5-B36E-2C39471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1F7-E765-4390-BA21-484D7B44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04E-1F21-4792-91D6-02A05AB3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64E4-BA67-435B-9031-AF6D8983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C70-5B0B-4FA2-A0A3-95DE518D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C41-77A4-4466-8A3D-922FBC46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D3E-2678-4E30-8AC6-F3FAD9B7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C93-A8E7-41C7-9B7A-916126C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DC6-F811-43D8-B92B-DE8EFD7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911-3BFD-4932-B183-03C8763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51A-5005-4AC2-B7D9-E503285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D400-25FC-4F8C-A744-B2A87BD0DF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08D4-B253-433C-B8B4-0CB2BFCE4B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3:26Z</dcterms:modified>
  <cp:revision>15</cp:revision>
  <dc:subject/>
  <dc:title>House Blueprints</dc:title>
</cp:coreProperties>
</file>