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18F-DEC7-4448-919F-FABA9FF7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42D-4887-4849-B1E7-9AF72953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A83-A0D2-4227-A283-C1DCBEE3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7D6-4892-4B1D-84A4-C49CD32D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06ED-F15A-4E8A-90DC-33F4CED9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75F9-A930-475A-BDAB-6CB22BD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8BFF-D977-4823-B68B-9A4CC3E3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FA99-3A15-4B8E-B358-9B7A554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8682-F8B7-449E-BDEA-CBDC91C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525C-C227-454A-B678-58F6F330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8220-421B-43BC-A8BA-8C6FE73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B64-1FF7-4D12-B0F2-0CD69C3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F5BA-2BC4-44C7-911E-9A67163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F8B-41A6-4792-AC4E-117F100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6069-9617-42E2-B92D-15C7FCA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D49-8C75-4DF1-AB02-74B770CA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117-489E-4C96-BD82-E0DC4118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1FE-437A-4C15-AA99-BDA508D9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08F-3953-4CE3-A335-52537C91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EA2-C51F-4CB3-B804-B70CD77E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764-0743-41D5-9ECF-8D200409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44D-4634-4C3D-9523-932EA77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422-1940-4C12-88B7-11CCB3E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494-41E2-4FA6-973C-48A373F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357-052A-49C6-B7EF-CD7C87033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BF6-6A90-4B73-BC0B-E45CBBB17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3:26Z</dcterms:modified>
  <cp:revision>15</cp:revision>
  <dc:subject/>
  <dc:title>House Blueprints</dc:title>
</cp:coreProperties>
</file>